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286-9E6D-48FC-AD2D-A01F0204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77A-36A4-4E16-8409-23E9D4BF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E93-D79E-4B9D-AAF8-9406CEDF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434-F11A-436B-AD67-B4827732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37A-C62F-44B4-8479-3C3A3AA1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385-1CE2-4ADB-8765-C2FC51AB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251-605F-4F22-A86B-3BAF5FDB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6E0-4D74-4EC6-86D5-B2D400B2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D73-8E7D-4E9B-A09E-5439F954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49C-481A-435A-98F6-733F401E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F89-47E9-4B3D-B952-2D0C84F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2E7-B791-4D8D-9FD8-45445143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860C-0A79-4866-B094-A859B60CB5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756-71DA-4E28-8474-521F8785C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83600" y="3333600"/>
            <a:ext cx="1760400" cy="352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Using the TPACK Framework students will identify: content, pedagogy, and technology in a real school activity. Students will complete the TPACK Framework at the beginning of class. Revisit the process at the end of class and revisit/revise their TPACK Framewo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719280" y="4827600"/>
            <a:ext cx="805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pack-contexts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81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knowledge = Programming Lo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agogy Knowledge = Lecture with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ou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Knowledge = use VB to draw 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ixels using a lo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ACK Solution = The student will draw X Y axis using loops and drawing pix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17:26Z</dcterms:created>
  <dc:creator>sbswan02</dc:creator>
  <dc:description/>
  <dc:language>en-US</dc:language>
  <cp:lastModifiedBy>201g_07</cp:lastModifiedBy>
  <dcterms:modified xsi:type="dcterms:W3CDTF">2010-08-30T22:36:59Z</dcterms:modified>
  <cp:revision>6</cp:revision>
  <dc:subject/>
  <dc:title>TPACK Framework Activity </dc:title>
</cp:coreProperties>
</file>